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890-3B69-410D-ABE5-366BBE0F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634-C19B-46A0-B0A8-5AA0F21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437-4B6A-4962-97B4-03A5341C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79D-9393-4010-9414-BA0196CD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4F3-FA8E-4C0D-9825-58100F7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2D4-45D6-4B5C-A34C-A1EF2A3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A77-184C-4470-810C-E888944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4A7-CDE4-416D-9B62-1640B59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AFF-63DD-4F03-BA3B-A2D6721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767-355A-4B02-8CA3-FC8E3C3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0D2-AA7B-415A-BF49-8DFDB09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E1B-55C6-42DC-BE09-352FBB4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78F3-809E-4171-9048-9827CF4FD9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ason" TargetMode="External"/><Relationship Id="rId2" Type="http://schemas.openxmlformats.org/officeDocument/2006/relationships/hyperlink" Target="http://en.wikipedia.org/wiki/Goal-oriented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henrysebastian.files.wordpress.com/2008/06/far-side-3.jpg"/>
          <p:cNvPicPr/>
          <p:nvPr/>
        </p:nvPicPr>
        <p:blipFill>
          <a:blip r:embed="rId1"/>
          <a:stretch/>
        </p:blipFill>
        <p:spPr>
          <a:xfrm>
            <a:off x="2241720" y="457200"/>
            <a:ext cx="4660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ctive reasoning: featur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uction, in contrast to deduction, only gives us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ikelihood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ather than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ertain knowled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Its probable truth can be increased with extra inform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e added the same piece of information as before - mothers of football players like their children to wear protective helmets – this time, we might feel more confident about 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swers to the questions on the hand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the future is bigger than the p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uction – from the general (dolphins) to the specific (bottle-nosed dolph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from the specific to the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what he has seen doesn’t ensure he won’t see it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uction – although it makes an assumption that all human beings can think rationally (which may not be true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there are other factors at stake beyond the crime act for the cause of crime, so it is not dealing with certain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uction – the first premise is a scientific law that applies to all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scientists infer from insufficient (albeit likely)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ow do we use reaso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 of rea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mbers: noun…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power of the mind to think, form opinions and judgements, reach logical conclusions, et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D: noun…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power of the mind to think, understand, and form judgements log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ikipedia: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as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the ability of the human mind to form and operate on concepts in abstraction, in an ordered and usually a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goal-orient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ways to ‘think, form opinions and judgements, reach logical conclusions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ne end of the spectru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al or creative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is thinking creatively to come up with a likely answer to a situation or problem. It may not give us CERTAIN KNOWLEDGE, but it provides us with a good probability of something being tr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the other en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reasoning or log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used properly, it brings us close to CERTAIN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: featur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take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ule or principle to work out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onclusion about something. An example would be to 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All American football players wear protective helmets when they play football (premis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an is an American football player (premise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refore, he must wear a helmet when he plays football (conclu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: featur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gives us CERTAIN KNOWLEDGE, which cannot be clarified even if we add extra inform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e said, for example, that parents of American football players like to see their children wearing helmets, it wouldn’t make our knowledge of how he is dressed any more certain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ctive reasoning: featur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ppo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take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onclusion that we have made about something and use it to work out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ule or principle. 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an is wearing a protective hel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an is a football p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refore, it is likely that all football players wear white protective helmets when they play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9:56:07Z</dcterms:created>
  <dc:creator>IT Systems Department</dc:creator>
  <dc:description/>
  <dc:language>en-US</dc:language>
  <cp:lastModifiedBy>Michael Dunn</cp:lastModifiedBy>
  <dcterms:modified xsi:type="dcterms:W3CDTF">2013-09-20T13:22:33Z</dcterms:modified>
  <cp:revision>10</cp:revision>
  <dc:subject/>
  <dc:title>How do we use reason?</dc:title>
</cp:coreProperties>
</file>